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864-E197-4AFF-A71A-90FDFCE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044-8ECB-4064-B0AC-5494491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BF9-C5B1-4B63-93EB-7D5CC9EA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AC6-E6E1-4EBA-AB43-D8E3C21E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8C9-7FF0-449F-8FEB-B54E0741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B33-E42E-46D6-9006-3186E22C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8A8-DD8F-429B-A9D1-C34BD97B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227-21A8-4CFD-847E-72A4C3F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00A-4D8D-4159-8630-00916391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8E5-E4B3-461F-A5D1-8A66CFF1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0FF-2951-4CA7-BF1B-0D9DDCA9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BB4-2053-4828-BB83-84BE69E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8800-6584-4AE2-9933-D5382094E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C:\Users\Meredith\AppData\Local\Microsoft\Windows\Temporary Internet Files\Content.IE5\0XKSI6DM\MC900265546[1].wmf"/>
          <p:cNvPicPr/>
          <p:nvPr/>
        </p:nvPicPr>
        <p:blipFill>
          <a:blip r:embed="rId1"/>
          <a:stretch/>
        </p:blipFill>
        <p:spPr>
          <a:xfrm>
            <a:off x="3048120" y="2762280"/>
            <a:ext cx="2971800" cy="1581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C:\Users\Meredith\AppData\Local\Microsoft\Windows\Temporary Internet Files\Content.IE5\0XKSI6DM\MC900265546[1].wmf"/>
          <p:cNvPicPr/>
          <p:nvPr/>
        </p:nvPicPr>
        <p:blipFill>
          <a:blip r:embed="rId2"/>
          <a:stretch/>
        </p:blipFill>
        <p:spPr>
          <a:xfrm>
            <a:off x="5878440" y="42084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C:\Users\Meredith\AppData\Local\Microsoft\Windows\Temporary Internet Files\Content.IE5\0XKSI6DM\MC900265546[1].wmf"/>
          <p:cNvPicPr/>
          <p:nvPr/>
        </p:nvPicPr>
        <p:blipFill>
          <a:blip r:embed="rId3"/>
          <a:stretch/>
        </p:blipFill>
        <p:spPr>
          <a:xfrm>
            <a:off x="5791320" y="4114800"/>
            <a:ext cx="3276360" cy="236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:\Users\Meredith\AppData\Local\Microsoft\Windows\Temporary Internet Files\Content.IE5\0XKSI6DM\MC900265546[1].wmf"/>
          <p:cNvPicPr/>
          <p:nvPr/>
        </p:nvPicPr>
        <p:blipFill>
          <a:blip r:embed="rId4"/>
          <a:stretch/>
        </p:blipFill>
        <p:spPr>
          <a:xfrm>
            <a:off x="3124080" y="63972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C:\Users\Meredith\AppData\Local\Microsoft\Windows\Temporary Internet Files\Content.IE5\0XKSI6DM\MC900265546[1].wmf"/>
          <p:cNvPicPr/>
          <p:nvPr/>
        </p:nvPicPr>
        <p:blipFill>
          <a:blip r:embed="rId5"/>
          <a:stretch/>
        </p:blipFill>
        <p:spPr>
          <a:xfrm>
            <a:off x="228600" y="19810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C:\Users\Meredith\AppData\Local\Microsoft\Windows\Temporary Internet Files\Content.IE5\0XKSI6DM\MC900265546[1].wmf"/>
          <p:cNvPicPr/>
          <p:nvPr/>
        </p:nvPicPr>
        <p:blipFill>
          <a:blip r:embed="rId6"/>
          <a:stretch/>
        </p:blipFill>
        <p:spPr>
          <a:xfrm>
            <a:off x="544680" y="4559400"/>
            <a:ext cx="5257800" cy="22986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4"/>
          <p:cNvSpPr/>
          <p:nvPr/>
        </p:nvSpPr>
        <p:spPr>
          <a:xfrm flipH="1">
            <a:off x="2971440" y="2843280"/>
            <a:ext cx="304920" cy="3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9"/>
          <p:cNvSpPr/>
          <p:nvPr/>
        </p:nvSpPr>
        <p:spPr>
          <a:xfrm flipH="1" flipV="1">
            <a:off x="4381200" y="2600280"/>
            <a:ext cx="1522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3"/>
          <p:cNvSpPr/>
          <p:nvPr/>
        </p:nvSpPr>
        <p:spPr>
          <a:xfrm flipH="1">
            <a:off x="3173040" y="4343400"/>
            <a:ext cx="1360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21"/>
          <p:cNvSpPr/>
          <p:nvPr/>
        </p:nvSpPr>
        <p:spPr>
          <a:xfrm>
            <a:off x="5802480" y="4071960"/>
            <a:ext cx="16272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 flipV="1">
            <a:off x="5649840" y="2135160"/>
            <a:ext cx="22860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3581280" y="30844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 DARLING"/>
              </a:rPr>
              <a:t>Visual P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685800" y="2363760"/>
            <a:ext cx="1752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tist we are studying 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>
            <a:off x="3505320" y="121140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calls his a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6324480" y="990720"/>
            <a:ext cx="213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_________ is the humorous use of a word or phrase to emphasize or suggest its different mean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0"/>
          <p:cNvSpPr/>
          <p:nvPr/>
        </p:nvSpPr>
        <p:spPr>
          <a:xfrm>
            <a:off x="6248520" y="4559400"/>
            <a:ext cx="23619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examples of a visual pu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43"/>
          <p:cNvSpPr/>
          <p:nvPr/>
        </p:nvSpPr>
        <p:spPr>
          <a:xfrm>
            <a:off x="1371600" y="487692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______________________ is 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work in which the figures project from a supporting background, usually a flat su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51"/>
          <p:cNvSpPr/>
          <p:nvPr/>
        </p:nvSpPr>
        <p:spPr>
          <a:xfrm>
            <a:off x="228600" y="6397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: 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0:43:48Z</dcterms:created>
  <dc:creator>Meredith</dc:creator>
  <dc:description/>
  <dc:language>en-US</dc:language>
  <cp:lastModifiedBy>kjcrumd</cp:lastModifiedBy>
  <dcterms:modified xsi:type="dcterms:W3CDTF">2010-11-08T15:03:25Z</dcterms:modified>
  <cp:revision>7</cp:revision>
  <dc:subject/>
  <dc:title>PowerPoint Presentation</dc:title>
</cp:coreProperties>
</file>